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82FC-BBA1-4544-AC33-4096CF78E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0ADA-3C0C-4B72-A7F8-009BB4A8F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ADCC-2717-4E73-B1AA-6DE62209B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6C34-8279-4F3A-A118-3E68B1D84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CB449-767D-468A-9AE9-5B7CB0E25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4942D-55D1-4BCA-ADEA-8A92697BA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20644-16EE-41BE-9338-5D11F7A5F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3306A-57AB-49A6-926D-31529B69C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8BB48-BF9D-4767-91ED-37315D674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B95CF-19AC-435F-82C8-71C776B01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77348-0387-4066-A07D-9C5E8532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FBF9-0F1E-454C-9FA6-8686CEC61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AF400-D4C8-4E15-81E8-5598373E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7D707-E6E9-41B8-BC3F-006C8C8A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9EEDA-B9E8-43CA-9BAF-9DE83DA83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3486B-704E-4FD8-8ECD-738EF4F77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6A33F-D21B-4135-9249-73B0FDDF9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A91A-BC70-413F-8BC6-7DA169EF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D3CB-266F-4548-96AA-1457E7D6B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4F6D-816C-451B-A430-5410F476D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15C0-D08F-4535-93D2-907F4A7F8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981A-2FCA-4960-B25C-7F2C5E27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19E1-EB38-4C7B-8873-F8D05E83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10E4-B666-4082-A792-BDF04E25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B9064-13FB-48FC-B920-45793B8597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1C81A-31A8-43B0-BD84-7AFFFABA19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bartleby.com/142/1019.html#193.6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bartleby.com/142/1019.html#193.14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bartleby.com/142/1019.html#193.22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THE CIVIL WAR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1861-1865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276720" y="2590920"/>
            <a:ext cx="2466720" cy="127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ONSEQUENCE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nd of slave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4 million slaves free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ivil War amendments (13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, 14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, 15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620,000 Americans dead (5mm today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estruction of land in South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itter feelings on both sid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RECONSTRUCTION TASK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ut the nation back together politically, economically, socially, psychologicall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ive the freed people the tools for freedo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uarantee the new rights of the freed peopl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ecide whether the President or Congress would lead Reconstruc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ASSASSINATION OF LINCOL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362320" y="1905120"/>
            <a:ext cx="439740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ASSASSINATION OF LINCOL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762120" y="1905120"/>
          <a:ext cx="7696080" cy="5310000"/>
        </p:xfrm>
        <a:graphic>
          <a:graphicData uri="http://schemas.openxmlformats.org/drawingml/2006/table">
            <a:tbl>
              <a:tblPr/>
              <a:tblGrid>
                <a:gridCol w="7238880"/>
                <a:gridCol w="457200"/>
              </a:tblGrid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 Captain! My Captain! by Walt Whitm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 CAPTAIN! my Captain! our fearful trip is done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ship has weather’d every rack, the prize we sought is won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port is near, the bells I hear, the people all exulting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le follow eyes the steady keel, the vessel grim and daring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t O heart! heart! heart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</a:t>
                      </a:r>
                      <a:r>
                        <a:rPr b="0" i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 the bleeding drops of </a:t>
                      </a:r>
                      <a:r>
                        <a:rPr b="0" lang="en-US" sz="2000" spc="-1" strike="noStrike" u="sng">
                          <a:solidFill>
                            <a:srgbClr val="99cc00"/>
                          </a:solidFill>
                          <a:uFillTx/>
                          <a:latin typeface="Arial"/>
                          <a:hlinkClick r:id="rId1"/>
                        </a:rPr>
                        <a:t>red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re on the deck my Captain lies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len cold and dea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ASSASSINATION OF LINCOL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762120" y="1905120"/>
          <a:ext cx="7696080" cy="4255920"/>
        </p:xfrm>
        <a:graphic>
          <a:graphicData uri="http://schemas.openxmlformats.org/drawingml/2006/table">
            <a:tbl>
              <a:tblPr/>
              <a:tblGrid>
                <a:gridCol w="7388280"/>
                <a:gridCol w="307800"/>
              </a:tblGrid>
              <a:tr h="482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 Captain! my Captain! rise up and hear the bells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e up—for you the flag is flung—for you the bugle trills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</a:t>
                      </a:r>
                      <a:r>
                        <a:rPr b="0" i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you bouquets and ribbon’d wreaths—for you the shores a-crowding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you they call, the swaying mass, their eager faces turning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re Captain! dear father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2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arm beneath your </a:t>
                      </a:r>
                      <a:r>
                        <a:rPr b="0" lang="en-US" sz="2000" spc="-1" strike="noStrike" u="sng">
                          <a:solidFill>
                            <a:srgbClr val="99cc00"/>
                          </a:solidFill>
                          <a:uFillTx/>
                          <a:latin typeface="Arial"/>
                          <a:hlinkClick r:id="rId1"/>
                        </a:rPr>
                        <a:t>head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is some dream that on the deck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</a:t>
                      </a:r>
                      <a:r>
                        <a:rPr b="0" i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8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ve fallen cold and dea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ASSASSINATION OF LINCOL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009800" y="1717560"/>
          <a:ext cx="7124400" cy="3772080"/>
        </p:xfrm>
        <a:graphic>
          <a:graphicData uri="http://schemas.openxmlformats.org/drawingml/2006/table">
            <a:tbl>
              <a:tblPr/>
              <a:tblGrid>
                <a:gridCol w="6813360"/>
                <a:gridCol w="31104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 Captain does not answer, his lips are pale and still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 father does not feel my arm, he has no pulse nor will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ship is anchor’d safe and sound, its voyage closed and done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 fearful trip, the victor ship, comes in with object won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</a:t>
                      </a:r>
                      <a:r>
                        <a:rPr b="0" i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ult, O shores, and ring, O bells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t I, with </a:t>
                      </a:r>
                      <a:r>
                        <a:rPr b="0" lang="en-US" sz="2000" spc="-1" strike="noStrike" u="sng">
                          <a:solidFill>
                            <a:srgbClr val="99cc00"/>
                          </a:solidFill>
                          <a:uFillTx/>
                          <a:latin typeface="Arial"/>
                          <a:hlinkClick r:id="rId1"/>
                        </a:rPr>
                        <a:t>mournful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tread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lk the deck my Captain lies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len cold and dea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1011240" y="4727160"/>
            <a:ext cx="18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819520" y="1752480"/>
            <a:ext cx="3344760" cy="4599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803680" y="6284880"/>
            <a:ext cx="33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ident Abraham Linco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70640" y="990720"/>
            <a:ext cx="52358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THE PLAYERS: The North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THE PLAYERS: The North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981080" y="1981080"/>
            <a:ext cx="5246640" cy="36547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905120" y="57913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 Ulysses S. Gr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THE PLAYERS: The North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743200" y="1676520"/>
            <a:ext cx="3583080" cy="4626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442240" y="6324480"/>
            <a:ext cx="41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 William Tecumseh Sherm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THE PLAYERS: The North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590920" y="1828800"/>
            <a:ext cx="3957480" cy="46324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91960" y="3541680"/>
            <a:ext cx="195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man on S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Atla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AUSE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lave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estward expans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ailure of political compromis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nstitutional crisi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ulture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THE PLAYERS: The North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743200" y="1752480"/>
            <a:ext cx="3675240" cy="45943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959920" y="6284880"/>
            <a:ext cx="30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 George McClel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THE PLAYERS: The South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743200" y="1752480"/>
            <a:ext cx="3610080" cy="4569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729160" y="6361200"/>
            <a:ext cx="31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ident Jefferson Dav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THE PLAYERS: The South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3729240" cy="45910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728440" y="6361200"/>
            <a:ext cx="29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 Robert E. L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451640" y="3998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THE PLAYERS: The South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971800" y="1752480"/>
            <a:ext cx="3336840" cy="46166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36400" y="388620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e on Trave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388200" y="3922560"/>
            <a:ext cx="255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son on Little Sorr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THE PLAYERS: </a:t>
            </a:r>
            <a:br>
              <a:rPr sz="3300"/>
            </a:b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Johnny Reb &amp; Billy Yank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209680" y="1905120"/>
            <a:ext cx="471672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THE PLAYERS: Billy Yank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3071880" cy="36590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715000" y="2209680"/>
            <a:ext cx="2757600" cy="37022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3429000" y="2819520"/>
            <a:ext cx="2532240" cy="36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300" spc="-1" strike="noStrike">
                <a:solidFill>
                  <a:srgbClr val="336666"/>
                </a:solidFill>
                <a:latin typeface="Arial Black"/>
              </a:rPr>
              <a:t>THE PLAYERS: Johnny Reb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2313000" cy="27352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029200" y="2590920"/>
            <a:ext cx="3695760" cy="32572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3124080" y="2362320"/>
            <a:ext cx="166392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ANTIETAM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578628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GETTYSBURG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286000" y="1752480"/>
            <a:ext cx="469908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ATLANTA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590920" y="1752480"/>
            <a:ext cx="4012920" cy="46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HARACTERISTIC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rst modern wa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 arm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igh casualt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ivilian targe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ifle, trench, telegraph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se of railroad to move troop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hotograph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SURRENDER AT APPOMATTOX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7221240" cy="46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SURRENDER AT APPOMATTOX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574020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ONSEQUENCE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nd of slave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4 million slaves free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ivil War amendments (13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, 14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, 15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620,000 Americans dead (5mm today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estruction of land in South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itter feelings on both sid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THE NORTH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arger popula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dust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ailroad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acked clear motiva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naconda Pla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lockade Southern 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pture Mississippi River, invade &amp; split So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pture Richm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THE SOUTH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ghting on home groun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ilitary tradi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killed general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maller popula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o indust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o railroad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efensive war of attri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OMPARISON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612468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KEY BATTLE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rst Bull Ru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ntieta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hancellorsvill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ettysbur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Vicksbur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tlan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etersburg/Richmon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MILESTONE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tietam &amp; Emancipation Procla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ttysbu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erman’s March Through Georg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nt’s Virginia Campa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rrender at Appomatto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ncoln’s Second Inaugur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judgments of the Lord are true and righteous altogether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malice toward none, with charity for 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. .let us . . .bind up the nation’s wounds”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16:39:46Z</dcterms:created>
  <dc:creator>epilla</dc:creator>
  <dc:description/>
  <dc:language>en-US</dc:language>
  <cp:lastModifiedBy>epilla</cp:lastModifiedBy>
  <dcterms:modified xsi:type="dcterms:W3CDTF">2011-12-01T19:03:19Z</dcterms:modified>
  <cp:revision>15</cp:revision>
  <dc:subject/>
  <dc:title>THE CIVIL WAR</dc:title>
</cp:coreProperties>
</file>